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7DFE5-86DB-418F-AA05-DAC9A48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D9841-22B2-4E86-8705-E926DD6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72ECF-57CF-41DC-A561-6F7E77C5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A00CF-4311-4B53-BB99-BC34340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06DD4-353C-43CE-B936-FF2B13E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E0F1E-EFCC-4983-BDEC-233F76F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03763-BD55-4551-9D11-CADCC65C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58F95-C74F-4D3A-8308-470EB638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0A1D0-7E01-47A3-9021-6787875F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8B301-0090-4B4D-BB7F-DBF4F93E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E8D00-2883-47B7-AB8F-3B1652DF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2A101-EA80-4EBA-9D7A-E1D3E13C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6D480-6556-4617-82CA-C261A607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199B1-EEA5-44DB-B55F-5CB32924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7E06B-2492-41CD-AAA7-5F0222D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570A6-11F9-4570-8CB7-34155C3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6F849-0282-4EC3-A899-2FE32DC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260BC-B7E7-474F-A859-17C51E8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E717C-F6FE-4993-A9F3-6A254A3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D3B34-4B95-4D97-8E85-52A47B2B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3967D-5D7F-443F-B179-58B9ADE3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8A5FD5-58BA-4AA4-9E0D-2610A259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9DD8FD-773D-4F2A-9B55-24BE1AB7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F7A051-322F-4B14-9A8F-412943D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ADF1A2-585F-4FC6-972A-E8E5B717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AD4FA3-2168-4B7B-86C4-A5D20122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684F48-0816-430A-9FCC-3A875578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849AF7-FC64-4233-960C-6BE28EC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CD5B8B-DE45-4487-91A7-6C62774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B6DDB5-35F4-4A1B-B03E-5DAC320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95BFC-1B5F-4E71-930D-23747FEA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9E97B3-CC27-4E93-96AF-21C285A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81D922-C831-4FC3-8D4A-FCBF2FF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DD8226-BB87-4CE1-9A1A-5BDB0BE1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C78C8-7167-434B-AE88-38040C40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D70EB-FEDD-4668-844D-AC59884B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66AA6-90B1-4593-BB29-E5D5CCC4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F4D8F-3B1F-4B26-BE1A-F1AD722B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5EDF5-A14C-4E71-9D1E-D334CDF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86DCB-BBEA-409D-A41C-3CF4A04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75041-47F9-40BE-9C82-4579EB58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A0859-85CE-406B-9860-8ACCC7C7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D942E-20BD-4C67-862E-FFAA89C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6DFBC-678D-4141-98DC-80FDDFE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A4CAE-554C-4FF6-96A1-257BA9F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59879-C9AF-4801-B13C-7A32F887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C0D5B-FE73-4112-A01C-273FB2B8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EFF1B9-117A-4BF9-8C38-EB289423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CF59D9-E47D-40C9-A479-3B64E678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210FFF-06D3-4B15-A710-2B640987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A689CF-6E0C-4B53-85E6-6E54ED2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41B972-512C-4ADD-9FAF-AA8FE262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05585-156F-4B9F-AC6D-0C9B79BC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F67426-B5EF-40C3-A4A4-BE827F2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1AB5F0-A019-432D-A9F5-B9BF5C1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86D631-23B7-4C48-A5E5-386FA810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0476A1-01C8-4DFE-B1A5-4B24877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6B0AEA-6990-4D7A-B638-A4A64574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DB2260-F4C6-4DD4-BD6D-7E550E15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F8913D-5009-4835-BF6D-282CDA8C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7E2E08-A253-411C-916E-7E802B12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415624-283E-4FC1-B198-770A8ED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4AB470-86AA-43ED-B199-7FA92A7A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CB9FC-AF5F-4EF8-B2DC-53BD77A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B2BF50-2AEF-4C09-AD49-EBAE45D9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ECF327-7FB8-4BDD-B8B2-B8DAAC2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927BA3-285B-4D0B-9C58-C1063393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9EA5FA-C059-4226-BC53-C666C112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48A36E-9AF5-4914-8B49-54A2DD57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23F28D-43ED-420C-8F38-960CEB4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788415-E332-4E4D-A50A-D9FABF0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5456D9-A0F3-4C03-A617-7FF8D0DC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726BEA-652F-4421-86DF-BD209308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62BF02-9A53-4777-9AEF-F2C8A867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D1363-7808-42D7-8BF9-8AA1303B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EAE6D5-C98C-49CA-B817-4C7C3E2F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11EE0D-6408-47E7-BD14-8470133C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61E14D-4F90-466D-8056-D9A871E5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DC9ED0-718D-4D9D-A446-8DB4F296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764037-A8B2-4EF4-92D7-1F472A4C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27BD46-0404-4261-9E19-F59EE5CA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CA5BCA-326B-4171-A6E4-4AFEF12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FE3D57-A3E8-4F57-9FBA-2E5BB69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6CAF24-740C-4820-A924-73F92CD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AC4FD7-A11B-4556-8C33-D99912EC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931AC-6A1C-4B6A-BAA8-F1DE0DF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517FBF-56F1-4670-AD14-513BC205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A8272-7D03-443C-B8A8-C4E5B8F7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3DBAA-AC7A-4B4F-8DDE-E6365907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571DA-963D-4958-BB79-6774853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0EE2B-8F81-4C09-AB5C-9829D2B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D9FD9-62BC-46B7-BF5E-D11AC657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3D44B-6424-4A90-80F8-DDA3379B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A1A19-8F9B-4258-97EF-56A19D83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7CB2F-7DD0-4666-8D4A-97F8BDC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1871D-7A8B-406B-B5A7-3D3E0EE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7D4C5-A30C-4E5A-BB4D-2F52DFDC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BC914-8682-4CF7-998C-CF97E95C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EFC0A-52DB-44D2-84C1-9C6B5373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99D17-3164-4DE7-9E17-0A5C04B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00AEF-0842-4F01-86F1-AC088BA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E7625-CE35-451E-9DFA-1D007DD0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E5E74-A56C-4147-9B87-82D8AD0B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C6064-654B-47F8-9222-13A146CB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D3A87-6512-46A3-B6ED-8D7C23E1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A0D7F-8731-4C79-810C-8AA982A3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B8A20-9501-4176-B223-35B785F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27D8E-AE42-4CFA-A200-0E2F4142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08B9C-877B-4156-9700-E34B62B0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29F4C6-BF07-4C92-9056-9464468B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6224D-DBFF-42A2-B9B7-BF1C22A5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AB177-E218-4C75-958F-4A46317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0A56E-981A-43B8-95F3-63B8455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873AE-8DD6-4D65-BB9C-3BF7060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316CC-C86F-4799-A6F1-D8B2DDA8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624A8-F127-46AA-9551-9A4D1619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EEF06-E117-4CCB-ACE5-61759E3A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FF224-29FA-4314-91BF-69FA5BE4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80668-EF0A-4FBA-90BE-B4E0FFF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5A650-CD96-49B5-AF36-96D823EE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291CB-E931-46D2-934E-AD8D070C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C50448-C8A1-44CF-A2AE-E646B551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47EC3-59AA-4773-81BD-6AC5364E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512FD8-55F1-46D2-8635-94E8559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2DF87-2626-410D-A79D-0E7BB90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8F42A2-32E8-4C37-82EA-003B845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3D1376-E077-4311-8068-2702CF1B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ACE8E-5CB8-4D8D-B567-FBAF9401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03FF15-964C-4B6F-A4CC-A4035D25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B221ED-036B-4673-BACA-638508B0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35C0B-6155-4C7F-AD54-4CEA12E2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91B80-54BD-4AA4-8C88-B332389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527E66-F2B7-4E1B-884F-84DA8D0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FD0796-D654-4561-BE51-A2B0A8DB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0444D-0514-44F4-B297-AEB9A80D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503CEE-5B8B-4DA8-A614-91841EE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8C8D4-09E9-4F16-8CA3-34CAD32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7F7A3-0488-400E-8FE1-60CD194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8CD6C-5898-42B2-BEBB-C03774B7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16CF3-A57D-4D8B-97D7-71ACB241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B5D548-AB00-4D76-9C40-2D0B365B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5539A-0FCD-498C-82B9-59F4597B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0D5F7-F9B5-4836-BF12-7EA9486E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26D85A-8330-4BCE-BB6E-6746941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BD8E7-4307-4474-9DD0-5646C63A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09CFCC-314B-4183-AED7-6122C37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FE5889-3AE0-4489-9677-F60EB7B6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D39E5-F1FA-4269-9792-84CA20CA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4733B4-E1EB-4165-AAAA-7DF2A717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40B24-0926-443A-BC7E-F8787AF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DC6810-A5A2-49B6-A6B5-4243C6F1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8D4117-EB56-4E22-8045-73392F48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CB0A89-5B77-46D4-BD34-E5413BAC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74CE7-2D97-4314-B2D3-3FCAD938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3FE8CF-BDD3-417D-B1E7-7808686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20644A-E7CD-497B-9B66-B362082C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5367C-379C-483B-AA91-8FDA1511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D0D0D7-56EF-4A83-A864-66F64BB4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C50E4-79CC-4E0F-9430-4CE8B60D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13950-230A-49CE-9215-2DA7C3E9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49BE7A-16F6-404A-A3C4-B2C7AD0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4E009-4E0D-425F-98C1-7D6397B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C6F55E-7C27-465A-90E1-2F78CF36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47BEE0-8A18-45E4-BC54-1D36B2BA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353D2-24B0-4DEE-8D8D-73A1D897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1DEA0-1F87-4D22-9573-F7C66DED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A0DE0-7A23-43B5-9B26-9A5B2ED7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80439-E1DB-467A-8ACF-D27A0074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purple cogs"/>
          <p:cNvPicPr/>
          <p:nvPr/>
        </p:nvPicPr>
        <p:blipFill>
          <a:blip r:embed="rId2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5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39D5-DDA5-4C7D-AD17-67AA169B0F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hteck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hteck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7F37-FC2E-46F6-B47B-B2C403DC37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5213-97C5-4E99-BDA1-5884EA1B4F4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Rechteck 13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46" name="Rechteck 13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Flussdiagramm: Prozess 15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lussdiagramm: Prozess 16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15AB-645C-4E69-A03E-8AC4802AC1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94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FC5-EE36-406B-9201-33C858FB65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43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9F7C-01A9-4738-86E0-D1BD78BC26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504-B4B1-4F13-9DE7-F48F57BB0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UoE Corporate PowerpointTitle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5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C04-8711-4E05-8CB1-1315262D50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urple cogs"/>
          <p:cNvPicPr/>
          <p:nvPr/>
        </p:nvPicPr>
        <p:blipFill>
          <a:blip r:embed="rId2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9529-18A9-41E6-87D0-CA2D606A0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6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81" name="Ellipse 13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82" name="Ellipse 13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Ellipse 15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1ED-B615-48A6-8DE5-7EE21E60A1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9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C07A-487A-4098-A88A-3036A878B7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hteck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hteck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Ellipse 16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78" name="Ellipse 16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Ellipse 17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D0C0-12CA-4075-B6CB-63F41562F8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5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5C29-7D86-40F9-8CA9-67D1915C71B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21D-9DFC-454D-8559-F34176DCFA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8"/>
          <p:cNvSpPr/>
          <p:nvPr/>
        </p:nvSpPr>
        <p:spPr>
          <a:xfrm>
            <a:off x="4067280" y="59500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alile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uide to becoming a leader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971640" y="1052640"/>
            <a:ext cx="81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Groups of 4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Examine and discuss the Team Project Leader job descrip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What are the key responsibilities of the team leader rol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543708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684360" y="2276280"/>
            <a:ext cx="770544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Guide/coordinate team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members – encourage teamwork and motivate individua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Provide structure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for team – set mission and purpose, clarify roles and responsibilities, allocate tasks and set objectiv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Clarify working methods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, practises and behaviour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Focus on performance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– anticipate challenges, monitor performance, delegate and provide CPD suppor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1116000" y="1341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Key Team Leader Responsibil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1547640" y="2349360"/>
            <a:ext cx="66088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Responsibility Vs Accountabilit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What does having authority mea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543708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8190000" y="4960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684360" y="2205000"/>
            <a:ext cx="79912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ccountability the state of being accountable, liable, or answer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Responsibility can be delegated but accountability can not – buck stops with you!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 good leader accepts ultimate responsibility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will give credit to others when delegated responsibilities succe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will accept blame when delegated responsibilities fai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ccountability can not operate fairly without the leader being given full authority for the responsibilities concern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uthority is the power to influence or command thought, opinion or behaviou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162864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ccountability vs Responsi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529416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755280" y="1773000"/>
            <a:ext cx="76899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Gill Sans MT"/>
              </a:rPr>
              <a:t>Group Exercise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When have you experienced an issue as a leader that you did not have the authority to resolve?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ow did you know you did not have the authorit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o did you refer to for help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examples from your own current experience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ork, volunteer, club /socie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543708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684360" y="206028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Team Leader authority will vary from role to role dependent on the scope of duties and organisational structur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 Team Leader may refer to line management or o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uthorities for the following:</a:t>
            </a:r>
            <a:br>
              <a:rPr sz="2200"/>
            </a:b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HR (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staff recruitment  and training, performance and discipline, racism or bullyin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Policy and procedures</a:t>
            </a: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Health and Safety, changes to working practis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Budget &amp; resources 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(allocation and management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Organisational objectives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(strategy, target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Managing change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(department restructure, office mov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Line management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(support and advice, own CPD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543708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628720" y="142236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eam Leader Autho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8000" y="1348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How to improve your leadership skil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84000" y="242064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Reflect and identify the skills YOU need to lead effectively and create your action plan to develop them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Ask for feedback from work colleagues, line managers, tutors, your ‘followers’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Practise! Take on responsibility (work, volunteering, clubs &amp; Societies) and reflect on your performance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SIFE - www.youtube.com/watch?v=KB2fOF_gYB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Find a mentor – learn from positive leadership role-mod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Attend further leadership and management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Use the resources on Exeter Leaders Award ELE pag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551016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Review your performance as a Leader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826920" y="2060640"/>
            <a:ext cx="79218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dividual Exercise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sess yourself as a Lea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duct a SWOT analysis - Strengths, Weaknesses, Opportunities, Threa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velop an Action Plan to improve as a l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 2 actions you will undertake to address Weaknesses or capitalise on Opportunities identifi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ply SMART targets to your actions – Specific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asurable, Achievable, Realistic, Time-bou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Session objectiv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00000" y="2205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at is leadership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Identify the traits and skills of an effective l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Key leadership theo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Examine the role, duties and responsibilities of a Team L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Understand the limits of authority in a Team Leader ro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Develop a plan to develop your own leadership potential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514980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90560" y="1563840"/>
            <a:ext cx="8353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Understanding Leadership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971280" y="2898720"/>
            <a:ext cx="777708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at is leadership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y is leadership important – why do we need lead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Leaders – born or bred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551016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ußzeilenplatzhalter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hteck 2"/>
          <p:cNvSpPr/>
          <p:nvPr/>
        </p:nvSpPr>
        <p:spPr>
          <a:xfrm>
            <a:off x="1042920" y="21337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who wants to lead the orchestra must turn his back on the crow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 Lucad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hteck 3"/>
          <p:cNvSpPr/>
          <p:nvPr/>
        </p:nvSpPr>
        <p:spPr>
          <a:xfrm>
            <a:off x="5003640" y="429264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rone is only a bench covered with velv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poleon Bonapar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hteck 4"/>
          <p:cNvSpPr/>
          <p:nvPr/>
        </p:nvSpPr>
        <p:spPr>
          <a:xfrm>
            <a:off x="1042920" y="429264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ship does not depend on being r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an Illic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hteck 6"/>
          <p:cNvSpPr/>
          <p:nvPr/>
        </p:nvSpPr>
        <p:spPr>
          <a:xfrm>
            <a:off x="1547640" y="26028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preme quality for leadership is unquestionably integrity. Without it, no real success is possi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Times New Roman"/>
              </a:rPr>
              <a:t>Dwight D. Eisenhow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hteck 7"/>
          <p:cNvSpPr/>
          <p:nvPr/>
        </p:nvSpPr>
        <p:spPr>
          <a:xfrm>
            <a:off x="5003640" y="2133720"/>
            <a:ext cx="39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st terms, a leader is one who knows where he wants to go, and gets up, and goes.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imes New Roman"/>
              </a:rPr>
              <a:t>Ohn Ersk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900000" y="1988640"/>
            <a:ext cx="73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Exercise In pair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iscuss examples you have come across of strong and weak leadersh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You can use examples from school or extra curricular activ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e anonymous, please!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551016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684000" y="2178000"/>
            <a:ext cx="813564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Early Theories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Great Man Theories </a:t>
            </a: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Leaders are exceptional people, born with innate qualities, destined to lead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Term 'man' was intentional - concept was primarily male, military and Western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Trait Theories </a:t>
            </a: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Research on traits or qualities associated with leadership are numerous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Traits are hard to measure. For example, how do we measure honesty or integrity?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543708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12520" y="1464840"/>
            <a:ext cx="67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Leadership Trai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26920" y="2637000"/>
            <a:ext cx="7731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Group Exercise: 10 minu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oose </a:t>
            </a:r>
            <a:r>
              <a:rPr b="0" i="1" lang="en-GB" sz="3200" spc="-1" strike="noStrike">
                <a:solidFill>
                  <a:srgbClr val="000000"/>
                </a:solidFill>
                <a:latin typeface="Gill Sans MT"/>
              </a:rPr>
              <a:t>five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leaders YOU admi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What personality traits and skills do they hav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543708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33080" y="2060640"/>
            <a:ext cx="460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Tra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daptable to situations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lert to social environment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mbitious and achievement orientated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ssertiv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Cooperativ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Decisiv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Dependabl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Dominant (desire to influence others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Energetic (high activity level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Persistent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Self-confident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Tolerant of stress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Willing to assume responsibility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4968720" y="2160720"/>
            <a:ext cx="40672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kill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lever (intelligent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onceptually skilled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reativ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plomatic and tactful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luent in speaking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nowledgeable about group task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rganised (administrative ability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Persuasiv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cially skilled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togdill, 1974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0" y="155736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raits and Skill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539640" y="609300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4932360" y="5516640"/>
            <a:ext cx="4032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Leaders will also use: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ntegrity, Honesty, Compassion, Humility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898560" y="1989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Transformational Theory 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(Bass and Avolio, 1994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eaders inspire individuals, develop trust, and encourage creativity and personal growt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ndividuals develop a sense of purpose to benefit the group, organisation or society. This goes beyond their own self-interests and an exchange of rewards or recognition for effort or loyalt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w Leadership The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8:19:32Z</dcterms:created>
  <dc:creator> Careers Advisory Service</dc:creator>
  <dc:description/>
  <dc:language>en-US</dc:language>
  <cp:lastModifiedBy>Gymnasium Grootmoor</cp:lastModifiedBy>
  <dcterms:modified xsi:type="dcterms:W3CDTF">2014-07-02T10:14:49Z</dcterms:modified>
  <cp:revision>208</cp:revision>
  <dc:subject/>
  <dc:title>PowerPoint Presentation</dc:title>
</cp:coreProperties>
</file>